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235-449D-4B1F-B2F4-4F65E39C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683-2F96-410D-83C7-8BF0DD49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980-91DF-4FE0-BD53-361DCD39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FFD-5D3D-4414-9E77-BDDF003D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8A2-E105-4092-85D7-FD0F6D51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6AC-DEFF-47E9-AB40-D489B68C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61E-7376-4C24-9812-7DB31362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28C-2931-4DE9-A1F9-E0940B20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79C-253C-418C-9D57-13F5DB73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853-0125-4AC5-9B5A-CCBD645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AAD-4D06-4B18-B337-3D90E24C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C55-C59E-4C6F-AF45-7EA117C8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8FB5-4AF3-4DF7-8EE1-957CD8A30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irstpeople.us/FP-Html-Pictures/bears_pg01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Lucida Bright"/>
              </a:rPr>
              <a:t>T</a:t>
            </a:r>
            <a:r>
              <a:rPr b="0" lang="en-US" sz="4400" spc="-1" strike="noStrike">
                <a:solidFill>
                  <a:srgbClr val="00cc00"/>
                </a:solidFill>
                <a:latin typeface="Lucida Bright"/>
              </a:rPr>
              <a:t>emperate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Lucida Bright"/>
              </a:rPr>
              <a:t>Gina Medb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Lucida Bright"/>
              </a:rPr>
              <a:t>Jacob Chaf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Lucida Bright"/>
              </a:rPr>
              <a:t>Brittney Bar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Ques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How can we save the temperate fo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hat kind of trees live in the deciduous fo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hat types of animals are found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here can temperate forests be f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hat is the annual precipitation amou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Name one organism &amp; its adaptation to the fo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hat kind of resources can we get from the deciduous fo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eac2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http://www.fao.org/forestry/docrep/wfcxi/PUBLI/V6/T382E/3-2.HT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http://www.forestinfo.org/discovery/misc.htm#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http://www.enchantedlearning.com/biomes/tempdecid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http://www.blueplanetbiomes.org/world_biomes.ht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http://www.usmp.berkeley.edu/exhibits/biomes/index.ph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BIOLOGY, Campbell &amp; Ree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Biology-The Dynamics of Life, Glenco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Jacob: questions 1, 2, &amp;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Brittney: questions 4, 5,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Gina: questions 7, 8, &amp;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Where can this biome be f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Deciduous forests can be found in Eastern parts of North America, in the middle of Europe, and in eastern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Geologic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Beneath the soil there are layers of cl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The Temperate Forest is usually near rivers, ponds, and l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Has very fertile soil because of decaying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Temperature &amp;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The average temperature of the deciduous forest is about -30</a:t>
            </a:r>
            <a:r>
              <a:rPr b="0" lang="en-US" sz="3200" spc="-1" strike="noStrike">
                <a:solidFill>
                  <a:srgbClr val="000000"/>
                </a:solidFill>
                <a:latin typeface="Lucida Bright"/>
                <a:ea typeface="Arial"/>
              </a:rPr>
              <a:t>˚C- 30˚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The average rainfall is about 30-100 in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Temperate forest photos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2082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6634" r="-2436" b="3803"/>
          <a:stretch/>
        </p:blipFill>
        <p:spPr>
          <a:xfrm>
            <a:off x="2971800" y="441972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Bright"/>
              </a:rPr>
              <a:t>Maple, Oak, Birch, and Elm trees are just a few different types of trees located in the deciduous forest, that house birds, &amp; different types of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Bright"/>
              </a:rPr>
              <a:t>Shrubs and herbs live on the forest floor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31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Types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Northern Cardinal</a:t>
            </a: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: Easily spotted, red song bird. It is from the Eastern United States, such as the deciduous fo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Black Bear</a:t>
            </a: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: Large, mostly harmless bears. They hibernate in the winter, &amp; are found across North Ame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Frog</a:t>
            </a: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: Amphibians are animals that spend part of their lives under the water, and the remainder on land. Starting as a tadpole, it eventually grow into a mature fr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Bright"/>
              </a:rPr>
              <a:t>During winter, trees in the temperate forest lose their leaves, so they don’t freeze and to conserv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Bright"/>
              </a:rPr>
              <a:t>Bears in the winter develop extra fat and fur to keep themselves warmer during their hiber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Bright"/>
              </a:rPr>
              <a:t>In the deciduous forest trees lean towards the sun to receive more light to mak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Black Bear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73392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Human Impact &amp;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Endangering the Deciduous Forest, humans cut down trees for paper products, plow land for agricultural purposes, &amp; build residential &amp; commercial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To ensure survival of the Temperate Forest we could carpool more to decrease fuel emission, and cut down less trees to conserve the area for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Value of Temperate For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To make money off of this biome people may cut down trees to produce paper, &amp; many woo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Many people also hunt animals for their fur and for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511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3:05:45Z</dcterms:created>
  <dc:creator>xpstudent</dc:creator>
  <dc:description/>
  <dc:language>en-US</dc:language>
  <cp:lastModifiedBy>xpstudent</cp:lastModifiedBy>
  <dcterms:modified xsi:type="dcterms:W3CDTF">2010-10-28T13:01:41Z</dcterms:modified>
  <cp:revision>4</cp:revision>
  <dc:subject/>
  <dc:title>Temperate Forest</dc:title>
</cp:coreProperties>
</file>